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22C-8B6D-4ED8-A61C-7A39654D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07F-6EEE-4918-97E7-4229E08A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C4A-A1BF-4D3F-83A5-2925D151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154-EC39-4105-8E9A-A8ECA42A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748-7549-4D0F-B210-E4C6F904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028-3761-48D5-BFCA-B9CFBFAD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E93-4E66-486E-AABF-655EBB44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7D5-8B68-42BF-A02F-EC6FE151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708-0D80-43BE-86C2-5349B46D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27C-B0ED-44C4-94BB-CD707800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5C1-D328-4321-B639-E81B463B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F43-A92C-4D91-828A-06B80D16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E302-A2E9-41FE-8AA0-FE572E83B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opyrightauthority.com/copyright-symbol/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teslj.org/links/ESL/Listening/Podcasts/" TargetMode="External"/><Relationship Id="rId3" Type="http://schemas.openxmlformats.org/officeDocument/2006/relationships/hyperlink" Target="http://iteslj.org/links/ESL/Listening/Podcasts/" TargetMode="External"/><Relationship Id="rId4" Type="http://schemas.openxmlformats.org/officeDocument/2006/relationships/hyperlink" Target="http://a4esl.org/p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7400" y="779400"/>
            <a:ext cx="476244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85960" y="5272200"/>
            <a:ext cx="280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a2d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ready for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19832" t="0" r="20154" b="0"/>
          <a:stretch/>
        </p:blipFill>
        <p:spPr>
          <a:xfrm>
            <a:off x="1000080" y="2890800"/>
            <a:ext cx="7105680" cy="1114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24240" y="44658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manythings.org/song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66960" y="3198960"/>
            <a:ext cx="5372280" cy="91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02000" y="446580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slpod.co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6160" y="303840"/>
            <a:ext cx="62751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diate Conversations - Got a new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n't you get a desktop compu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Bill Pellowe and Robert Char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cast date: Tuesday, March 7th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'll hear this intermediate-level conversation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, you'll hear several short practice dialogs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I got a new computer yester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: You got a new computer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Yes, a new notebook compu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: Why didn't you get a desktop compute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6400" y="4543560"/>
            <a:ext cx="43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ltpodcast.co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31080" y="3697200"/>
            <a:ext cx="21049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805120" y="2928960"/>
            <a:ext cx="5419800" cy="1228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77320" y="45036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sl.libsyn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85960" y="433440"/>
            <a:ext cx="46846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81520" y="3160800"/>
            <a:ext cx="4324320" cy="990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82240" y="454356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mthomsen1776.podomat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17920" y="587520"/>
            <a:ext cx="385776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49720" y="779400"/>
            <a:ext cx="4438800" cy="1409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995640" y="2238480"/>
            <a:ext cx="45151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56080" y="1009800"/>
            <a:ext cx="42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n you do in the classro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7440" y="1662120"/>
            <a:ext cx="52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n your students do outside of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453360" y="2506680"/>
            <a:ext cx="18158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ca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3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ica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3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ica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Globalmediapro HPM-102 Stereo Headphones with Microphone Globalmediapro HPM-102 Stereo Headphone with Microphone"/>
          <p:cNvPicPr/>
          <p:nvPr/>
        </p:nvPicPr>
        <p:blipFill>
          <a:blip r:embed="rId2"/>
          <a:stretch/>
        </p:blipFill>
        <p:spPr>
          <a:xfrm>
            <a:off x="6953400" y="3044880"/>
            <a:ext cx="1206360" cy="1920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87920" y="433440"/>
            <a:ext cx="3647880" cy="2360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rcRect l="0" t="0" r="0" b="22748"/>
          <a:stretch/>
        </p:blipFill>
        <p:spPr>
          <a:xfrm>
            <a:off x="4687920" y="3083040"/>
            <a:ext cx="20192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3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ica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0040" y="2546280"/>
            <a:ext cx="1842840" cy="998640"/>
          </a:xfrm>
          <a:prstGeom prst="rect">
            <a:avLst/>
          </a:prstGeom>
          <a:solidFill>
            <a:srgbClr val="c7f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3360" y="3851280"/>
            <a:ext cx="1843200" cy="998640"/>
          </a:xfrm>
          <a:prstGeom prst="rect">
            <a:avLst/>
          </a:prstGeom>
          <a:solidFill>
            <a:srgbClr val="c7f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49680" y="1393920"/>
            <a:ext cx="1843200" cy="998280"/>
          </a:xfrm>
          <a:prstGeom prst="rect">
            <a:avLst/>
          </a:prstGeom>
          <a:solidFill>
            <a:srgbClr val="c7f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7040" y="2584440"/>
            <a:ext cx="1843200" cy="998640"/>
          </a:xfrm>
          <a:prstGeom prst="rect">
            <a:avLst/>
          </a:prstGeom>
          <a:solidFill>
            <a:srgbClr val="c7f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5960" y="2698920"/>
            <a:ext cx="16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your 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49680" y="4005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onto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65600" y="1432080"/>
            <a:ext cx="16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onto Digital Voice Rec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57440" y="2506680"/>
            <a:ext cx="2151360" cy="1266840"/>
          </a:xfrm>
          <a:prstGeom prst="flowChartDecision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3800" y="281448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to 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31120" y="2738520"/>
            <a:ext cx="16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on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90640" y="3236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90640" y="3121200"/>
            <a:ext cx="57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86560" y="3160800"/>
            <a:ext cx="614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9c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tio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6600" y="433440"/>
            <a:ext cx="2355840" cy="2381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8920" y="3594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226040" y="3313080"/>
            <a:ext cx="394020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ca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53360" y="2506680"/>
            <a:ext cx="1815840" cy="141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131616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content could you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10160" y="1969920"/>
            <a:ext cx="41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ld your students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a2d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ready for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73320" y="1201680"/>
            <a:ext cx="253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pod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44640" y="2354400"/>
            <a:ext cx="253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p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70640" y="2354400"/>
            <a:ext cx="253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40240" y="4119480"/>
            <a:ext cx="31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broad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8200" y="4081320"/>
            <a:ext cx="253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Ip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08200" y="471600"/>
            <a:ext cx="29574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ptember 24, 2004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Verdana"/>
              </a:rPr>
              <a:t>September 30, 2004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Verdana"/>
              </a:rPr>
              <a:t>October 3,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Verdana"/>
              </a:rPr>
              <a:t>By October 18,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Verdana"/>
              </a:rPr>
              <a:t>October,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7400" y="519588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about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4280" y="509760"/>
            <a:ext cx="291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663480"/>
            <a:ext cx="291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2080" y="817560"/>
            <a:ext cx="291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94280" y="471600"/>
            <a:ext cx="291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3840" y="471600"/>
            <a:ext cx="41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hits for “podcast” on Goog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3080" y="13557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10880" y="2314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2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09800" y="328788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ov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0560" y="43513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over 100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91520" y="57373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2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3760" y="433440"/>
            <a:ext cx="1535040" cy="73008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92920" y="377496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8280" y="373680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3760" y="373680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3760" y="2122560"/>
            <a:ext cx="1535040" cy="73008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23760" y="2162160"/>
            <a:ext cx="153540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23000" y="120168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6120" y="1278000"/>
            <a:ext cx="1652760" cy="230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94320" y="1778040"/>
            <a:ext cx="1036800" cy="614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78000"/>
            <a:ext cx="0" cy="691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38280" y="1239840"/>
            <a:ext cx="2419200" cy="766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99320" y="2084400"/>
            <a:ext cx="652320" cy="1498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006720"/>
            <a:ext cx="207324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00672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458800" y="3006720"/>
            <a:ext cx="211284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19680" y="549360"/>
            <a:ext cx="13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on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27936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8760" y="549360"/>
            <a:ext cx="1498680" cy="11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1480" y="43344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2238480"/>
            <a:ext cx="13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9320" y="120168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a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1520" y="2200320"/>
            <a:ext cx="16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o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8320" y="377496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1520" y="3774960"/>
            <a:ext cx="13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o a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70680" y="3851280"/>
            <a:ext cx="13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onto MP3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3760" y="433440"/>
            <a:ext cx="1535040" cy="730080"/>
          </a:xfrm>
          <a:prstGeom prst="rect">
            <a:avLst/>
          </a:prstGeom>
          <a:solidFill>
            <a:srgbClr val="f3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122560"/>
            <a:ext cx="1535040" cy="730080"/>
          </a:xfrm>
          <a:prstGeom prst="rect">
            <a:avLst/>
          </a:prstGeom>
          <a:solidFill>
            <a:srgbClr val="f3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3760" y="3736800"/>
            <a:ext cx="1535040" cy="730440"/>
          </a:xfrm>
          <a:prstGeom prst="rect">
            <a:avLst/>
          </a:prstGeom>
          <a:solidFill>
            <a:srgbClr val="f3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7480" y="471600"/>
            <a:ext cx="13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on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41920" y="2162160"/>
            <a:ext cx="16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o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1520" y="3774960"/>
            <a:ext cx="13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o a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28800" y="4773600"/>
            <a:ext cx="37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at is your simplest o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56080" y="1508040"/>
            <a:ext cx="37911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60120" y="4427640"/>
            <a:ext cx="51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teslj.org/links/ESL/Listening/Podcast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76640" y="377496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4esl.org/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68280" y="2506680"/>
            <a:ext cx="6896160" cy="1790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40480" y="450360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nglishcaster.com/bobro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23:10:44Z</dcterms:created>
  <dc:creator>MRC</dc:creator>
  <dc:description/>
  <dc:language>en-US</dc:language>
  <cp:lastModifiedBy>Sherry Rhodes</cp:lastModifiedBy>
  <dcterms:modified xsi:type="dcterms:W3CDTF">2006-04-29T09:22:02Z</dcterms:modified>
  <cp:revision>9</cp:revision>
  <dc:subject/>
  <dc:title>Slide 1</dc:title>
</cp:coreProperties>
</file>